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5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6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7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BC75C-779E-40B1-90E2-2122A24C14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5AC9E-221D-4D87-B3D3-0230ED528D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FFB5C-265E-401A-B931-5C70C76BC0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105F9-9746-4F7A-A64A-76C63AF538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EE3F5-D2D1-49F6-A5FD-CE342B81E5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1F0BF-5DF4-4E15-B156-E1DF74FEE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9ED59-EF32-4F82-B860-86F0469F1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9F7F7-D720-4821-8478-4B84CE52B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5883E-78B4-43BC-9665-B6C739B0C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D2EEA8-3C75-4C6A-91AB-55604BAFF4C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D70FCE-EDA2-48B4-A545-21B98E06609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121EFD-AE01-444F-80AE-AFF0605B6BF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8A62A5-89A1-46C6-A39D-9E6CF8FC461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8D8251-17C1-4489-8821-BBFA6F8BE5D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3934AD-6925-4B3D-8EB6-16C4F886E67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2CA694-9727-4CDF-A2A9-E6B81C1FD15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2AC8B-3AFB-4740-B1DF-6C51A06FB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E13D6D-5AD0-46B6-8937-83F272E8637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ABCC8F-86C9-4048-8739-90338F30B6C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3303F5-1B1B-4C52-80B2-A6E8A8EB9CC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7F55D1-2858-4E4A-A284-E5EB2DA8702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298EC7-4AC4-4715-AACC-5CBFADBBE0B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40D96-15B2-49B3-9CDC-4979CF00C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6C4ED-6C07-4B7F-8BA2-186E8F6B3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4746B-6327-4273-84B5-E42E4D722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CBCEC-1138-4C80-8324-EA3F3FED5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56378-AF96-4F58-BDB7-4DF34A70D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2772F-CF52-4EF9-849A-4968B345B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3E709-9CA4-4383-9FB1-7A188B5F6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B2B31-4300-41E7-8586-D09D15AB9E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C0C7BF01-CCA5-42B5-9410-C9136D47343F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9" name="Rectangle 13"/>
          <p:cNvSpPr/>
          <p:nvPr/>
        </p:nvSpPr>
        <p:spPr>
          <a:xfrm>
            <a:off x="755640" y="6391440"/>
            <a:ext cx="619272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Rapid Response Te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19E6FC2E-DD05-47B8-9822-8FE44B51650E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13"/>
          <p:cNvSpPr/>
          <p:nvPr/>
        </p:nvSpPr>
        <p:spPr>
          <a:xfrm>
            <a:off x="755640" y="6391440"/>
            <a:ext cx="619272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Rapid Response Te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6BE41-B434-4C3B-9C01-F73561D4D6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"/>
          <p:cNvSpPr/>
          <p:nvPr/>
        </p:nvSpPr>
        <p:spPr>
          <a:xfrm>
            <a:off x="1440" y="2421000"/>
            <a:ext cx="9141120" cy="167328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Verdana"/>
              </a:rPr>
              <a:t>Rapid Response Te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Arial"/>
              </a:rPr>
              <a:t>General objectiv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8280" y="1844640"/>
            <a:ext cx="821700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presentation describes the composition and role of functional, technical multi-disciplinary teams of experts (Rapid Response Teams) that should be deployed in case of emergenci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Arial"/>
              </a:rPr>
              <a:t>Learning objectiv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6840" y="1341360"/>
            <a:ext cx="8147160" cy="43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the end of the session you will be able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the importance of having fully operational Rapid Response Teams (RRTs) able to act immediately once a suspicious case is repor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the composition and terms of reference of the RR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the activities  of the RR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Defin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8360" y="764640"/>
            <a:ext cx="822960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RT is a group of experienced experts that are on stand-by and can reach any part of the country within 24 hours. Their actions will help to contain/stop an outbreak early on. They will survey the first case(s), provide health care in a central facility, engage with the community and carry out infection, prevention and control measures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2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RRTs: Composition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24000" y="1236240"/>
            <a:ext cx="4032000" cy="356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b0f0"/>
                </a:solidFill>
                <a:latin typeface="Arial"/>
                <a:ea typeface="Arial"/>
              </a:rPr>
              <a:t>Nation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2 clinici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2 epidemiologi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laboratory exp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social mob/anthropolog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logistici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psychosocial support exp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data 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7 burial staff (1 burial tea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media exp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Content Placeholder 2"/>
          <p:cNvSpPr/>
          <p:nvPr/>
        </p:nvSpPr>
        <p:spPr>
          <a:xfrm>
            <a:off x="4356000" y="1236600"/>
            <a:ext cx="4537080" cy="32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b0f0"/>
                </a:solidFill>
                <a:latin typeface="Arial"/>
                <a:ea typeface="Arial"/>
              </a:rPr>
              <a:t>Sub-Nation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2 clinici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2 epidemiologi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laboratory technici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social mob/anthropolog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logistici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1 social worker, psychiatric nur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1 data cle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7 burial staff (1 burial tea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1 local media per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Content Placeholder 2"/>
          <p:cNvSpPr/>
          <p:nvPr/>
        </p:nvSpPr>
        <p:spPr>
          <a:xfrm>
            <a:off x="611280" y="5157720"/>
            <a:ext cx="8208720" cy="8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2060"/>
                </a:solidFill>
                <a:latin typeface="Arial"/>
              </a:rPr>
              <a:t>The number of subnational teams depends on the level of risk,</a:t>
            </a:r>
            <a:br>
              <a:rPr sz="2000"/>
            </a:br>
            <a:r>
              <a:rPr b="0" i="1" lang="en-US" sz="2000" spc="-1" strike="noStrike">
                <a:solidFill>
                  <a:srgbClr val="002060"/>
                </a:solidFill>
                <a:latin typeface="Arial"/>
              </a:rPr>
              <a:t>human resource availability and geographic lo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Set up one at National level and at least one at subnat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Train medical staff on WHO-AFRO module applied in Liberia, including mock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Mapping of health facilities and identify potential ETC si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Train Community volunteers and Epis in subnational RRT (24h hotlin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Financial support from ET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Simulation exerci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2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RRTs: Role 1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50920" y="1052640"/>
            <a:ext cx="851832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2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RRTs: Role (2)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"/>
          <p:cNvSpPr/>
          <p:nvPr/>
        </p:nvSpPr>
        <p:spPr>
          <a:xfrm>
            <a:off x="457200" y="1052640"/>
            <a:ext cx="85345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ose appropriate strategies and control measures including risk communications activit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pare detailed investigation repor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ibute to the final evaluation of the outbreak respon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estigate rumors, reported outbreaks, and other public health emerg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ordinate rapid response actions wi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ners and other ag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itiate the implementation of the propo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ol measures including capacity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ild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2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RRTs: Role (3)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55640" y="2492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W" sz="5400" spc="-1" strike="noStrike">
                <a:solidFill>
                  <a:srgbClr val="0000ff"/>
                </a:solidFill>
                <a:latin typeface="Arial"/>
              </a:rPr>
              <a:t>Thank yo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14:06:57Z</dcterms:created>
  <dc:creator>Etienne M Minkoulou</dc:creator>
  <dc:description/>
  <dc:language>en-US</dc:language>
  <cp:lastModifiedBy>Gomez, Paula</cp:lastModifiedBy>
  <cp:lastPrinted>2013-10-01T07:19:12Z</cp:lastPrinted>
  <dcterms:modified xsi:type="dcterms:W3CDTF">2014-12-15T13:27:53Z</dcterms:modified>
  <cp:revision>145</cp:revision>
  <dc:subject/>
  <dc:title>DPC Training and Technical Update</dc:title>
</cp:coreProperties>
</file>